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34200" y="6566040"/>
            <a:ext cx="2307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05648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December 2010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b7b7b7"/>
                </a:solidFill>
                <a:latin typeface="Arial"/>
              </a:rPr>
              <a:t>PSP IT - Introduction - page </a:t>
            </a:r>
            <a:fld id="{6D42E8C3-4A7B-4365-AD5B-560ADAB41776}" type="slidenum">
              <a:rPr b="1" i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173160" y="233280"/>
            <a:ext cx="347652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058760" y="5087880"/>
            <a:ext cx="731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 Distribution is limited by the Software Engineering Institute to attendees.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600" spc="-1" strike="noStrike">
                <a:solidFill>
                  <a:srgbClr val="39536b"/>
                </a:solidFill>
                <a:latin typeface="Arial"/>
              </a:rPr>
              <a:t>2010 by Carnegie Mellon University</a:t>
            </a:r>
            <a:endParaRPr b="0" i="1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061520" y="6567480"/>
            <a:ext cx="11131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39536b"/>
                </a:solidFill>
                <a:latin typeface="Arial"/>
              </a:rPr>
              <a:t>December 2010</a:t>
            </a:r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62752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000" spc="-1" strike="noStrike">
                <a:solidFill>
                  <a:srgbClr val="39536b"/>
                </a:solidFill>
                <a:latin typeface="Arial"/>
              </a:rPr>
              <a:t>PSP IT - Introduction - page </a:t>
            </a:r>
            <a:fld id="{40E7440C-0A25-4CBC-9AA3-EF6AC3874767}" type="slidenum">
              <a:rPr b="1" i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9694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i="1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173160" y="216000"/>
            <a:ext cx="3476520" cy="4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i="1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Text Box 1037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PSP Instructor Training</a:t>
            </a:r>
            <a:endParaRPr b="0" i="1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i="1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PSP Course Transition Guide</a:t>
            </a:r>
            <a:endParaRPr b="0" i="1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crosoft Access-based tools for students and instru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s most val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most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tures historical data, incl. PROBE parts siz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after the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s earned value task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user-definable processes, size measures, prox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process tutorials incorporate the details of the new  student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rminology for Size Estimating Templat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23840" y="1709640"/>
          <a:ext cx="7407360" cy="4523040"/>
        </p:xfrm>
        <a:graphic>
          <a:graphicData uri="http://schemas.openxmlformats.org/drawingml/2006/table">
            <a:tbl>
              <a:tblPr/>
              <a:tblGrid>
                <a:gridCol w="3716280"/>
                <a:gridCol w="3691080"/>
              </a:tblGrid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ld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bject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art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thod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tems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 Size (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object LOC (E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Proxy Size (E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New and Changed LOC (N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jected Added and Modified Size (P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Total LOC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Total Siz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Reus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Reusabl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rminology for Project Plan Summary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7720" y="2166840"/>
          <a:ext cx="7413480" cy="2556000"/>
        </p:xfrm>
        <a:graphic>
          <a:graphicData uri="http://schemas.openxmlformats.org/drawingml/2006/table">
            <a:tbl>
              <a:tblPr/>
              <a:tblGrid>
                <a:gridCol w="3706560"/>
                <a:gridCol w="3706920"/>
              </a:tblGrid>
              <a:tr h="63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ld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ew Terminology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and Changed (N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 and Modified (A+M) (careful!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LOC (T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Size (T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Reuse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New Reusable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ing to Te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new book and instructor’s gu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your data into the new student workbook while following the new process tutorials. (Note: use current dates instead of the historical dat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your data after four programs,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revised course collateral starting with the README fi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or prototype program 4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 encourage you to move to the updated cour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he same PSP BOK as the PSP certific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updated course will be supported and evol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Instructor training is geared towards the new cour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ives for the new PSP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from the old course to the new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undations for the PSP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089680" y="1709640"/>
            <a:ext cx="3230280" cy="459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17720" y="1709640"/>
            <a:ext cx="3620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ld course based upon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A Discipline for Software Engineering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by Watts Humphre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ew course based upon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PSP: A Self Improvement Process for Software Engineer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 by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Watts Humphre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Improv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plified the programming assign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d the number of programming assignments from ten to e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hanced assignment ki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formation on statistics and algorithms to program requirements now inclu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ed examples added as an aid to understan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d report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s in the New Cour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17720" y="1709640"/>
            <a:ext cx="7772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Revised sequence of eight programming assignments to replace 1A – 10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(and renamed) repor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New student work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Lecture content modified to match the new 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process tutorials to match the new student work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Process exercises 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Terminology modified to match the new 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Updated instructor gui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ssignment Chang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8332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굴림"/>
              </a:rPr>
              <a:t>The number of programming assignments was reduced from ten to eigh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duces the amount of homework between week 1 and 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defect analysis report (R3) was rem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terim report replaces with the mid-term report (R4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are only four program of data for the student to analy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cus is now on establishing a process benchmark rather than setting improvement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17720" y="1709640"/>
          <a:ext cx="7413480" cy="4581720"/>
        </p:xfrm>
        <a:graphic>
          <a:graphicData uri="http://schemas.openxmlformats.org/drawingml/2006/table">
            <a:tbl>
              <a:tblPr/>
              <a:tblGrid>
                <a:gridCol w="1089000"/>
                <a:gridCol w="1301760"/>
                <a:gridCol w="5022720"/>
              </a:tblGrid>
              <a:tr h="50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gram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Level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cription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0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an and standard deviation (same as 1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0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ze counting for a program and its constituent parts (same as 3A) 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linear regression parameters and estimation (4A plus first step of 6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1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relative size table (new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mpson’s rule integration with t distribution (similar to 5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integrate to find x value for a given area (second step of 6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correlation, significance and prediction interval (rest of 6A and 7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2.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multiple regression (same as 10A)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Assign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17720" y="1938240"/>
          <a:ext cx="7400880" cy="3643560"/>
        </p:xfrm>
        <a:graphic>
          <a:graphicData uri="http://schemas.openxmlformats.org/drawingml/2006/table">
            <a:tbl>
              <a:tblPr/>
              <a:tblGrid>
                <a:gridCol w="3057480"/>
                <a:gridCol w="4343400"/>
              </a:tblGrid>
              <a:tr h="51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ssignmen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cription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OC Counting Standar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quivalent to R1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ing Standard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R2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rim Repor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similar to R4, but based on four programs with emphasis on process benchmarking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inal Repor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R5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Review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current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Review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5920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굴림"/>
                        </a:rPr>
                        <a:t>equivalent to current checklist</a:t>
                      </a:r>
                      <a:endParaRPr b="0" i="1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ilar to ones in current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verification lectures expan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 on use of design templates and 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1:07:57Z</dcterms:modified>
  <cp:revision>50</cp:revision>
  <dc:subject>24 July 2001 / 3:30pm</dc:subject>
  <dc:title>PowerPoint Presentation</dc:title>
</cp:coreProperties>
</file>